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5AA-C589-4300-8B4F-7F8E3E45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FE6-49DA-45C5-ACEA-ADE7F2B5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731-ED4F-413D-AE50-392DAD84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5A8-9778-4ED2-B11E-9F5291C5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DA6DE-A88F-4672-90EE-4C92C692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E5D18-3896-4FD9-B990-FDE39660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8E738-FF41-4CCD-BD69-47A691CF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995BF-97BA-4964-A205-F37E22DA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0FA49-ED41-4FEE-A9AA-8DB7D6DD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9C9D8-FEEE-425B-88C9-11ABF950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4F370-10AB-4065-B967-89F392C7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E2A-D231-45B3-98D8-1CE2B0CD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67FF9-9CFD-493E-A8AB-5DD21ECE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93CA5-A41C-4CC5-9A14-B26867A5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7BF4D-FACC-47FE-AF1A-C79BA19C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0E87F-FFE9-4435-88A6-49C2440A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FD2FE-12C7-4D34-A8C4-ACBBAA58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FE7-EC3A-4274-884E-F4D26F25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2BC-C7E3-4704-BD28-511071E0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3C7-801E-47F4-B3E0-9444D86A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616-C873-42AC-8ED2-6C818522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1E9-EA84-4BBE-AA0F-C3D3E3BE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159-9756-48F5-B5C9-C35103AA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AA2-6173-480D-8B7F-6C002C79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50B6-93F3-4C57-84ED-A534F3F968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C6E5-5DBD-41B9-9A17-5C8AA02633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4960" y="423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03680" y="7938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75640" y="97308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y Jo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I can use what I have learned about the way my brain works in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can do this when I learn  my learning technique learning style and intelligence 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31399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65440" y="32925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I can use what I have learned about the way my brain works in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can do this when I learn  my learning technique learning style and intelligence 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362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It’s important to learn how your brain works because it will help you know what you do best</a:t>
            </a:r>
            <a:r>
              <a:rPr b="0" lang="e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I can use what I have learned about the way my brain works in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can do this when I learn  my learning technique learning style and intelligence 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I can use what I have learned about the way my brain works in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can do this when I learn  my learning technique learning style and intelligence 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56760" y="307332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earning style is Audi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That means that I</a:t>
            </a:r>
            <a:r>
              <a:rPr b="0" lang="en" sz="3200" spc="-1" strike="noStrike">
                <a:solidFill>
                  <a:srgbClr val="ffffff"/>
                </a:solidFill>
                <a:latin typeface="Tahoma"/>
              </a:rPr>
              <a:t>  learn best by liste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My learning technique is Abstract Sequent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My intelligence type is Creative Intel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9360" y="274320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This means that I am creative in the</a:t>
            </a: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 a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I can use what I have learned about the way my brain works in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can do this when I learn  my learning technique learning style and intelligence 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58:07Z</dcterms:created>
  <dc:creator>demilovatorocks!</dc:creator>
  <dc:description/>
  <dc:language>en-US</dc:language>
  <cp:lastModifiedBy>demilovatorocks!</cp:lastModifiedBy>
  <dcterms:modified xsi:type="dcterms:W3CDTF">2010-12-08T16:45:25Z</dcterms:modified>
  <cp:revision>14</cp:revision>
  <dc:subject/>
  <dc:title>_____________________________________________________</dc:title>
</cp:coreProperties>
</file>